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wmf" ContentType="image/x-wmf"/>
  <Override PartName="/ppt/media/image14.jpeg" ContentType="image/jpeg"/>
  <Override PartName="/ppt/media/image4.jpeg" ContentType="image/jpeg"/>
  <Override PartName="/ppt/media/image2.png" ContentType="image/png"/>
  <Override PartName="/ppt/media/image15.wmf" ContentType="image/x-wmf"/>
  <Override PartName="/ppt/media/image1.jpeg" ContentType="image/jpeg"/>
  <Override PartName="/ppt/media/image3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62ED-D6E8-4ECA-8223-33CE2677D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9DF0-091C-43B8-BE2C-9E21F7A78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5580-5261-4A32-973F-0F526E24D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AF55-043E-4809-9F63-F79845F55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C2798-4777-48D2-A96E-EC31F3F67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630EB-9C77-450A-BEC5-574C202EF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74FC8-EBF6-4DE3-8503-107541559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2A6ED-F349-4468-A9C4-4CE9DCEE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2D651-E7EC-487B-BE48-FD51F3AC7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6BE5F-8A19-44F3-999C-F78DD2986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8F730-EC49-414B-92FB-A4819886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881D-C925-43FD-AD14-E1CBA20D4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AF916-B5B4-4E66-8541-554116A6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7D806-6575-45B2-890A-3686409D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FD110-BED4-40E2-B993-0FCA4F81B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DAA00-7CD0-443E-94E9-DC8162097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FFA86-94F3-40F8-8331-BF79E5893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4A2CC-1A18-4946-B469-ABE17A738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E3701-A861-4133-8B25-C70F918B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8F092-33E1-4D9F-9804-0DF64BC0C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7F243-3F9D-4E19-B2E4-40E25F6B6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67650-5616-4C96-8B83-341229026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8448-3624-4FC0-9E86-950CA8E01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140FB-C67D-44F9-A1DA-E3A1554C0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D7606-41F5-4A52-B0B5-956569F8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40589-2986-4765-BBD3-23BAD567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09831-5828-41EF-94AA-461BFC75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7DFDA-8ECD-40DC-9198-FCB4B4887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36263-EFD2-4CB5-8B5C-D423F48CD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FAC91-769E-4C50-935E-0AC2577B9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4B2E5-B96E-4DCB-8771-0E36D39CF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101A8-85FE-4195-ACE8-CD86D89A3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E5045-F719-4EBB-91A4-076FF74D7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F97C-28D4-4203-A13E-61333E2E0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2052F-684A-40D2-B7D2-32B4447E9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25074-99B6-43CC-9647-64B7636AD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E591F-3967-475C-B228-2763DD2B0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CD08E-9851-4B26-B795-F8A15932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1B5E4-2BC1-4092-AE57-50078D9D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AC5B1-B198-425F-99C0-C703F69A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1EA0E-0AE4-4B23-8526-27D9AE494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D8E8B-0640-4F2D-95FD-BAB6C0F9A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D2906-E1DE-4BC3-B160-772C20872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92ED-F49A-45D4-BEE7-2BE8069E0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3563-DE1D-497C-8F6A-BD031D671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B292-A3B0-42E6-8139-6807CF99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2612-798D-4F11-A5E2-ABB09954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7FAB-F787-4A6C-96ED-539BDCD1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98F40-F785-40AB-8636-B4A7C710893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0FC59-8FD1-4A02-9E21-A392E6ADBFB2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17409-9A52-4474-8D9C-AC8E10E65C74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2F00B-0892-4EB5-A576-5C65F3F85C8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8229600" cy="19620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ulletin Boar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8" name="Content Placeholder 3" descr="wEDTECK 002.jpg"/>
          <p:cNvPicPr/>
          <p:nvPr/>
        </p:nvPicPr>
        <p:blipFill>
          <a:blip r:embed="rId1"/>
          <a:stretch/>
        </p:blipFill>
        <p:spPr>
          <a:xfrm>
            <a:off x="0" y="0"/>
            <a:ext cx="4419720" cy="33148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wEDTECK 003.jpg"/>
          <p:cNvPicPr/>
          <p:nvPr/>
        </p:nvPicPr>
        <p:blipFill>
          <a:blip r:embed="rId2"/>
          <a:stretch/>
        </p:blipFill>
        <p:spPr>
          <a:xfrm>
            <a:off x="0" y="3309840"/>
            <a:ext cx="4732200" cy="35481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wEDTECK 004.jpg"/>
          <p:cNvPicPr/>
          <p:nvPr/>
        </p:nvPicPr>
        <p:blipFill>
          <a:blip r:embed="rId3"/>
          <a:stretch/>
        </p:blipFill>
        <p:spPr>
          <a:xfrm>
            <a:off x="4411800" y="3309840"/>
            <a:ext cx="4732200" cy="35481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wEDTECK 001.jpg"/>
          <p:cNvPicPr/>
          <p:nvPr/>
        </p:nvPicPr>
        <p:blipFill>
          <a:blip r:embed="rId4"/>
          <a:stretch/>
        </p:blipFill>
        <p:spPr>
          <a:xfrm>
            <a:off x="4411800" y="0"/>
            <a:ext cx="4732200" cy="3548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3" name="Content Placeholder 3" descr="wEDTECK 0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5" name="Picture 4" descr="wEDTECK 0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8" name="Picture 6" descr="wEDTECK 0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1" name="Picture 5" descr="wEDTECK 0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oints for Improveme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Letter heads are not that big enough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Announcements/Jobs posted are not eye-catching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Jobs Listed are scrambled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JOB OPPORTUNITI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04760"/>
            <a:ext cx="35812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ANT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TITSER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5’6’’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leasing Personalit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SED/BEED degree hold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ith 2 to 3 years experienc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pply now at the Ateneo Human Resources Section look for Criseld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Content Placeholder 2"/>
          <p:cNvSpPr/>
          <p:nvPr/>
        </p:nvSpPr>
        <p:spPr>
          <a:xfrm>
            <a:off x="4343400" y="1828800"/>
            <a:ext cx="358128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INAHANA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GU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leasing Pers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SED FILIPINO MAJ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ay 2 to 3 taong eksperyensiy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Gumugol na sa Filipino department at hanapin si Majorie o si Arce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5" descr="C:\Program Files (x86)\Microsoft Office\MEDIA\CAGCAT10\j0301252.wmf"/>
          <p:cNvPicPr/>
          <p:nvPr/>
        </p:nvPicPr>
        <p:blipFill>
          <a:blip r:embed="rId1"/>
          <a:stretch/>
        </p:blipFill>
        <p:spPr>
          <a:xfrm>
            <a:off x="7162920" y="2057400"/>
            <a:ext cx="1830240" cy="1565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JOB OPPORTUNITI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04760"/>
            <a:ext cx="35812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ANT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HRM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5’6’’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leasing Personalit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SBA - HR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ith 9 years experienc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rgy. Clearanc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pply now at the Ateneo Human Resources Section look for Mercedita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Content Placeholder 2"/>
          <p:cNvSpPr/>
          <p:nvPr/>
        </p:nvSpPr>
        <p:spPr>
          <a:xfrm>
            <a:off x="4343400" y="1828800"/>
            <a:ext cx="358128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SS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TYPIS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leasing Pers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ast h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ith or without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omputer-lite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Go to Ateneo de Davao Theology office and look for Mrs. Lucrecia Guevar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" descr="C:\Program Files (x86)\Microsoft Office\MEDIA\CAGCAT10\j0195384.wmf"/>
          <p:cNvPicPr/>
          <p:nvPr/>
        </p:nvPicPr>
        <p:blipFill>
          <a:blip r:embed="rId1"/>
          <a:stretch/>
        </p:blipFill>
        <p:spPr>
          <a:xfrm>
            <a:off x="7238880" y="1066680"/>
            <a:ext cx="1795680" cy="1833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8T21:42:29Z</dcterms:created>
  <dc:creator>Imperialdramon</dc:creator>
  <dc:description/>
  <dc:language>en-US</dc:language>
  <cp:lastModifiedBy>Jaiza Arcilla </cp:lastModifiedBy>
  <dcterms:modified xsi:type="dcterms:W3CDTF">2012-08-30T00:50:35Z</dcterms:modified>
  <cp:revision>7</cp:revision>
  <dc:subject/>
  <dc:title>Slide 1</dc:title>
</cp:coreProperties>
</file>